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B3D-8FB9-441F-B682-CDC5E07E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567-BDA7-4826-A81A-D3ABF75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33C-83B4-448F-9167-09E3ED7A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807-3BD6-4F0C-9D88-1CC18C64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FE7-8799-4ED7-A650-918FC48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BD8-DD12-4B40-B240-181D7854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4BA-1B42-4398-92DB-84BF645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D3E-FB79-4F61-9685-5D2CD83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016-3691-415A-94CC-A206667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DF3-3602-4720-8814-7619D76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429-60B3-443D-A4D3-F768D7C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F2A-03B5-48B9-9C5F-C50C845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D41-DF87-4F67-8C7E-371FA2AB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3 and 4.4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90 #90,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02-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0-3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8, 54,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0-7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zero tes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ave rational zero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(x) is factor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a(x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x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zeros are represented b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ading co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ons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is a factor of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factor of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zero tes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tional zeroes exist, they will be a ratio of p/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one: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 for 4.4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rithmetic operations on complex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quadratic equations having complex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fundamental theorem of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polynomials having complex zeros and complex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ary numbers: i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-1),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x numbers: all real number and all imaginary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and subtract as if i is 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i-1+3i+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Multiplying and dividing complex number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-i)(5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: eliminate by multiplying the numerator and the denominator by the conjugate of the denominator (change the middle sign of a + 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i/(3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lving quadratics with imaginary solu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x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√(2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4(1)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√(4-4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√-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6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-1 ± 3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function f(x) of degree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1 has at least one complex (remember– real or imaginary)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polynomial of degree n has at most n distinct z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44956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njugate zeros theore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olynomial has only real coefficients and if a+bi is a zero of f(x), then a-bi is also a zero of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31:02Z</dcterms:created>
  <dc:creator>nuhs</dc:creator>
  <dc:description/>
  <dc:language>en-US</dc:language>
  <cp:lastModifiedBy>nuhs</cp:lastModifiedBy>
  <dcterms:modified xsi:type="dcterms:W3CDTF">2008-02-14T18:19:52Z</dcterms:modified>
  <cp:revision>3</cp:revision>
  <dc:subject/>
  <dc:title>4.3 and 4.4</dc:title>
</cp:coreProperties>
</file>